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CD4-2E26-40BB-9320-B7522D8E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2BB6-4568-4ED0-8B4F-5DB4FA92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48A-28E4-4B24-961C-5CBAE002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E043-A4F2-4978-A47C-283609CC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A58-EB25-41C1-A0E6-06A453C3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253B-2F96-4370-8120-DF147632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6818-EA94-4F74-BFB1-082F0B88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6163-ED00-49F3-9F33-C4656A11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756-D239-4C76-97FB-DBB139EC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799-D5E4-4DE4-B020-02945598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47DF-5F75-466F-A79A-93A8750F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4308-5B9B-4DEC-A471-A9C506AF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F2FD-603F-4FDF-BCB6-5043E2329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10.png"/><Relationship Id="rId7" Type="http://schemas.openxmlformats.org/officeDocument/2006/relationships/hyperlink" Target="http://www.belluccidesign.it/clip_art/hand.jp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10.png"/><Relationship Id="rId7" Type="http://schemas.openxmlformats.org/officeDocument/2006/relationships/hyperlink" Target="http://www.belluccidesign.it/clip_art/hand.jp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www.belluccidesign.it/clip_art/hand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om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try your best to perform as QUICKLY and as ACCURATELY as you can on this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 you make an error, a siren will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ill be a total of eight blocks of 96 trials each, which should last around 25 minutes all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172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press the spacebar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-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ERROR: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 Keep in mind the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248520" cy="2065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71600" y="2362320"/>
            <a:ext cx="380880" cy="38088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2920" y="1219320"/>
            <a:ext cx="380880" cy="30456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63244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ss the “-” or “Ctrl” key to contin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752400" cy="1568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854840" y="2971800"/>
            <a:ext cx="374760" cy="1654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85800" y="4648320"/>
            <a:ext cx="749160" cy="1562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 rot="1046400">
            <a:off x="7754400" y="866880"/>
            <a:ext cx="685800" cy="65880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124080" y="3276720"/>
            <a:ext cx="4800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ay triangle is at top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ddle arrow points up, press the “-”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48769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ay triangle is at bottom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ddle arrow points down, press the “Ctrl” 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6248520" y="4648320"/>
            <a:ext cx="357120" cy="1577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20271600">
            <a:off x="457200" y="2209680"/>
            <a:ext cx="838080" cy="83196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533520" y="4495680"/>
            <a:ext cx="6172200" cy="1828800"/>
          </a:xfrm>
          <a:custGeom>
            <a:avLst/>
            <a:gdLst/>
            <a:ahLst/>
            <a:rect l="l" t="t" r="r" b="b"/>
            <a:pathLst>
              <a:path w="3888" h="1152">
                <a:moveTo>
                  <a:pt x="3552" y="48"/>
                </a:moveTo>
                <a:lnTo>
                  <a:pt x="3888" y="48"/>
                </a:lnTo>
                <a:lnTo>
                  <a:pt x="3888" y="1104"/>
                </a:lnTo>
                <a:lnTo>
                  <a:pt x="3504" y="1104"/>
                </a:lnTo>
                <a:lnTo>
                  <a:pt x="3504" y="960"/>
                </a:lnTo>
                <a:lnTo>
                  <a:pt x="672" y="960"/>
                </a:lnTo>
                <a:lnTo>
                  <a:pt x="672" y="1152"/>
                </a:lnTo>
                <a:lnTo>
                  <a:pt x="0" y="1152"/>
                </a:lnTo>
                <a:lnTo>
                  <a:pt x="0" y="0"/>
                </a:lnTo>
                <a:lnTo>
                  <a:pt x="672" y="0"/>
                </a:lnTo>
                <a:lnTo>
                  <a:pt x="672" y="240"/>
                </a:lnTo>
                <a:lnTo>
                  <a:pt x="3552" y="240"/>
                </a:lnTo>
                <a:lnTo>
                  <a:pt x="3552" y="48"/>
                </a:lnTo>
                <a:close/>
              </a:path>
            </a:pathLst>
          </a:custGeom>
          <a:noFill/>
          <a:ln cap="rnd" w="25560">
            <a:solidFill>
              <a:srgbClr val="00cc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895480"/>
            <a:ext cx="6172200" cy="1828800"/>
          </a:xfrm>
          <a:custGeom>
            <a:avLst/>
            <a:gdLst/>
            <a:ahLst/>
            <a:rect l="l" t="t" r="r" b="b"/>
            <a:pathLst>
              <a:path w="3888" h="1152">
                <a:moveTo>
                  <a:pt x="3552" y="48"/>
                </a:moveTo>
                <a:lnTo>
                  <a:pt x="3888" y="48"/>
                </a:lnTo>
                <a:lnTo>
                  <a:pt x="3888" y="1104"/>
                </a:lnTo>
                <a:lnTo>
                  <a:pt x="3504" y="1104"/>
                </a:lnTo>
                <a:lnTo>
                  <a:pt x="3504" y="960"/>
                </a:lnTo>
                <a:lnTo>
                  <a:pt x="672" y="960"/>
                </a:lnTo>
                <a:lnTo>
                  <a:pt x="672" y="1152"/>
                </a:lnTo>
                <a:lnTo>
                  <a:pt x="0" y="1152"/>
                </a:lnTo>
                <a:lnTo>
                  <a:pt x="0" y="0"/>
                </a:lnTo>
                <a:lnTo>
                  <a:pt x="672" y="0"/>
                </a:lnTo>
                <a:lnTo>
                  <a:pt x="672" y="240"/>
                </a:lnTo>
                <a:lnTo>
                  <a:pt x="3552" y="240"/>
                </a:lnTo>
                <a:lnTo>
                  <a:pt x="3552" y="48"/>
                </a:lnTo>
                <a:close/>
              </a:path>
            </a:pathLst>
          </a:custGeom>
          <a:noFill/>
          <a:ln cap="rnd" w="25560">
            <a:solidFill>
              <a:srgbClr val="00cc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543800" y="1752480"/>
            <a:ext cx="533520" cy="152424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219320" y="3123720"/>
            <a:ext cx="761760" cy="175284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ractice Complete: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 Keep in mind the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248520" cy="2065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371600" y="2362320"/>
            <a:ext cx="380880" cy="38088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1219320"/>
            <a:ext cx="380880" cy="30456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63244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ss the “-” or “Ctrl” key to begin the actual test tria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752400" cy="1568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854840" y="2994120"/>
            <a:ext cx="374760" cy="1654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85800" y="4648320"/>
            <a:ext cx="749160" cy="1562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 rot="1046400">
            <a:off x="7754400" y="866880"/>
            <a:ext cx="685800" cy="65880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3124080" y="3276720"/>
            <a:ext cx="4800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ay triangle is at top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ddle arrow points up, press the “-”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48769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ay triangle is at bottom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ddle arrow points down, press the “Ctrl” 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6248520" y="4648320"/>
            <a:ext cx="357120" cy="1577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20271600">
            <a:off x="457200" y="2209680"/>
            <a:ext cx="838080" cy="83196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33520" y="4495680"/>
            <a:ext cx="6172200" cy="1828800"/>
          </a:xfrm>
          <a:custGeom>
            <a:avLst/>
            <a:gdLst/>
            <a:ahLst/>
            <a:rect l="l" t="t" r="r" b="b"/>
            <a:pathLst>
              <a:path w="3888" h="1152">
                <a:moveTo>
                  <a:pt x="3552" y="48"/>
                </a:moveTo>
                <a:lnTo>
                  <a:pt x="3888" y="48"/>
                </a:lnTo>
                <a:lnTo>
                  <a:pt x="3888" y="1104"/>
                </a:lnTo>
                <a:lnTo>
                  <a:pt x="3504" y="1104"/>
                </a:lnTo>
                <a:lnTo>
                  <a:pt x="3504" y="960"/>
                </a:lnTo>
                <a:lnTo>
                  <a:pt x="672" y="960"/>
                </a:lnTo>
                <a:lnTo>
                  <a:pt x="672" y="1152"/>
                </a:lnTo>
                <a:lnTo>
                  <a:pt x="0" y="1152"/>
                </a:lnTo>
                <a:lnTo>
                  <a:pt x="0" y="0"/>
                </a:lnTo>
                <a:lnTo>
                  <a:pt x="672" y="0"/>
                </a:lnTo>
                <a:lnTo>
                  <a:pt x="672" y="240"/>
                </a:lnTo>
                <a:lnTo>
                  <a:pt x="3552" y="240"/>
                </a:lnTo>
                <a:lnTo>
                  <a:pt x="3552" y="48"/>
                </a:lnTo>
                <a:close/>
              </a:path>
            </a:pathLst>
          </a:custGeom>
          <a:noFill/>
          <a:ln cap="rnd" w="25560">
            <a:solidFill>
              <a:srgbClr val="00cc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2895480"/>
            <a:ext cx="6172200" cy="1828800"/>
          </a:xfrm>
          <a:custGeom>
            <a:avLst/>
            <a:gdLst/>
            <a:ahLst/>
            <a:rect l="l" t="t" r="r" b="b"/>
            <a:pathLst>
              <a:path w="3888" h="1152">
                <a:moveTo>
                  <a:pt x="3552" y="48"/>
                </a:moveTo>
                <a:lnTo>
                  <a:pt x="3888" y="48"/>
                </a:lnTo>
                <a:lnTo>
                  <a:pt x="3888" y="1104"/>
                </a:lnTo>
                <a:lnTo>
                  <a:pt x="3504" y="1104"/>
                </a:lnTo>
                <a:lnTo>
                  <a:pt x="3504" y="960"/>
                </a:lnTo>
                <a:lnTo>
                  <a:pt x="672" y="960"/>
                </a:lnTo>
                <a:lnTo>
                  <a:pt x="672" y="1152"/>
                </a:lnTo>
                <a:lnTo>
                  <a:pt x="0" y="1152"/>
                </a:lnTo>
                <a:lnTo>
                  <a:pt x="0" y="0"/>
                </a:lnTo>
                <a:lnTo>
                  <a:pt x="672" y="0"/>
                </a:lnTo>
                <a:lnTo>
                  <a:pt x="672" y="240"/>
                </a:lnTo>
                <a:lnTo>
                  <a:pt x="3552" y="240"/>
                </a:lnTo>
                <a:lnTo>
                  <a:pt x="3552" y="48"/>
                </a:lnTo>
                <a:close/>
              </a:path>
            </a:pathLst>
          </a:custGeom>
          <a:noFill/>
          <a:ln cap="rnd" w="25560">
            <a:solidFill>
              <a:srgbClr val="00cc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543800" y="1752480"/>
            <a:ext cx="533520" cy="152424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1219320" y="3124080"/>
            <a:ext cx="380880" cy="137160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458200" cy="2797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4038480"/>
            <a:ext cx="457200" cy="53352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05920" y="2514600"/>
            <a:ext cx="304560" cy="45720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8534520" y="914400"/>
            <a:ext cx="304560" cy="152388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cubicBezTo>
                  <a:pt x="48" y="232"/>
                  <a:pt x="0" y="464"/>
                  <a:pt x="0" y="624"/>
                </a:cubicBezTo>
                <a:cubicBezTo>
                  <a:pt x="0" y="784"/>
                  <a:pt x="48" y="872"/>
                  <a:pt x="96" y="960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0" y="4419720"/>
            <a:ext cx="457200" cy="129528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cubicBezTo>
                  <a:pt x="48" y="232"/>
                  <a:pt x="0" y="464"/>
                  <a:pt x="0" y="624"/>
                </a:cubicBezTo>
                <a:cubicBezTo>
                  <a:pt x="0" y="784"/>
                  <a:pt x="48" y="872"/>
                  <a:pt x="96" y="960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0"/>
            <a:ext cx="5715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out this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use the “-” key at top right of keyboard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51055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“Ctrl” key at bottom left of key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6172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spacebar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257800"/>
            <a:ext cx="1828800" cy="916920"/>
          </a:xfrm>
          <a:prstGeom prst="rect">
            <a:avLst/>
          </a:prstGeom>
          <a:solidFill>
            <a:srgbClr val="000000"/>
          </a:solidFill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tr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035000" cy="106668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248520" cy="2065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95280" y="3200400"/>
            <a:ext cx="381240" cy="38088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86600" y="2057400"/>
            <a:ext cx="304920" cy="38088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esponses will be fastest if you rest your left hand on the desk near the left side of the keyboard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388620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rest your right hand on the desk near the right side of the key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57150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fter resting your hands comfortably near the left and right sides of the keyboard, press the “Ctrl” key to contin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 rot="1603800">
            <a:off x="7695720" y="1828440"/>
            <a:ext cx="1200240" cy="115236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pic>
        <p:nvPicPr>
          <p:cNvPr id="6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0271600">
            <a:off x="304560" y="3048120"/>
            <a:ext cx="1038240" cy="103032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8458200" cy="2797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0"/>
            <a:ext cx="6934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actice using these keys, please use a finger from your RIGHT hand to press the “-” key. Probably your right index finger or right thumb will be most 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6172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“-” key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29600" y="3581280"/>
            <a:ext cx="304920" cy="45720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8533800" y="1295280"/>
            <a:ext cx="152280" cy="221004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cubicBezTo>
                  <a:pt x="48" y="232"/>
                  <a:pt x="0" y="464"/>
                  <a:pt x="0" y="624"/>
                </a:cubicBezTo>
                <a:cubicBezTo>
                  <a:pt x="0" y="784"/>
                  <a:pt x="48" y="872"/>
                  <a:pt x="96" y="960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315200" y="838080"/>
            <a:ext cx="1035000" cy="106704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8458200" cy="2797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09680" y="457200"/>
            <a:ext cx="716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use a finger from your LEFT hand to press the “Ctrl” key. Probably your left index finger or left thumb will be most 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6172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“Ctrl” key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105520"/>
            <a:ext cx="457200" cy="533160"/>
          </a:xfrm>
          <a:prstGeom prst="ellipse">
            <a:avLst/>
          </a:prstGeom>
          <a:noFill/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2133720"/>
            <a:ext cx="228600" cy="2895480"/>
          </a:xfrm>
          <a:custGeom>
            <a:avLst/>
            <a:gdLst/>
            <a:ahLst/>
            <a:rect l="l" t="t" r="r" b="b"/>
            <a:pathLst>
              <a:path w="96" h="960">
                <a:moveTo>
                  <a:pt x="96" y="0"/>
                </a:moveTo>
                <a:cubicBezTo>
                  <a:pt x="48" y="232"/>
                  <a:pt x="0" y="464"/>
                  <a:pt x="0" y="624"/>
                </a:cubicBezTo>
                <a:cubicBezTo>
                  <a:pt x="0" y="784"/>
                  <a:pt x="48" y="872"/>
                  <a:pt x="96" y="960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143000"/>
            <a:ext cx="1828800" cy="916920"/>
          </a:xfrm>
          <a:prstGeom prst="rect">
            <a:avLst/>
          </a:prstGeom>
          <a:solidFill>
            <a:srgbClr val="000000"/>
          </a:solidFill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tr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task, you will s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roup of triangles, like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1041480" cy="2184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8080" y="6172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“Ctrl” key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ined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1219320"/>
            <a:ext cx="4267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roup of arrows, like the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477120" y="2362320"/>
            <a:ext cx="495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64767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see stacks of triangles, indicate the LOCATION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iang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mall gray triangle is 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tack, you would press the “-” 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1041120" cy="2184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38080" y="6172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“Ctrl” key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3657600"/>
            <a:ext cx="6095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mall gray triangle is 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tt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stack, you would press the “Ctrl” 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38880" y="838080"/>
            <a:ext cx="1041480" cy="2171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095880" y="851040"/>
            <a:ext cx="1219320" cy="1054080"/>
          </a:xfrm>
          <a:custGeom>
            <a:avLst/>
            <a:gdLst/>
            <a:ahLst/>
            <a:rect l="l" t="t" r="r" b="b"/>
            <a:pathLst>
              <a:path w="768" h="952">
                <a:moveTo>
                  <a:pt x="0" y="904"/>
                </a:moveTo>
                <a:cubicBezTo>
                  <a:pt x="132" y="928"/>
                  <a:pt x="264" y="952"/>
                  <a:pt x="336" y="904"/>
                </a:cubicBezTo>
                <a:cubicBezTo>
                  <a:pt x="408" y="856"/>
                  <a:pt x="392" y="752"/>
                  <a:pt x="432" y="616"/>
                </a:cubicBezTo>
                <a:cubicBezTo>
                  <a:pt x="472" y="480"/>
                  <a:pt x="520" y="176"/>
                  <a:pt x="576" y="88"/>
                </a:cubicBezTo>
                <a:cubicBezTo>
                  <a:pt x="632" y="0"/>
                  <a:pt x="700" y="44"/>
                  <a:pt x="768" y="88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4508640"/>
            <a:ext cx="2057400" cy="901440"/>
          </a:xfrm>
          <a:custGeom>
            <a:avLst/>
            <a:gdLst/>
            <a:ahLst/>
            <a:rect l="l" t="t" r="r" b="b"/>
            <a:pathLst>
              <a:path w="1296" h="568">
                <a:moveTo>
                  <a:pt x="1296" y="40"/>
                </a:moveTo>
                <a:cubicBezTo>
                  <a:pt x="1024" y="20"/>
                  <a:pt x="752" y="0"/>
                  <a:pt x="576" y="40"/>
                </a:cubicBezTo>
                <a:cubicBezTo>
                  <a:pt x="400" y="80"/>
                  <a:pt x="336" y="192"/>
                  <a:pt x="240" y="280"/>
                </a:cubicBezTo>
                <a:cubicBezTo>
                  <a:pt x="144" y="368"/>
                  <a:pt x="72" y="468"/>
                  <a:pt x="0" y="568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1760" y="228240"/>
            <a:ext cx="5562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see arrows, indicate the DIRECTION in which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ow poi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middle arrow points up, you would press the “-” 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495360" cy="2187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38080" y="6172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“Ctrl” key to contin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3657600"/>
            <a:ext cx="4724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middle arrow points down, you would press the “Ctrl” 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71600" y="3505320"/>
            <a:ext cx="495360" cy="2185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410080" y="1981080"/>
            <a:ext cx="1219320" cy="343080"/>
          </a:xfrm>
          <a:custGeom>
            <a:avLst/>
            <a:gdLst/>
            <a:ahLst/>
            <a:rect l="l" t="t" r="r" b="b"/>
            <a:pathLst>
              <a:path w="768" h="216">
                <a:moveTo>
                  <a:pt x="0" y="192"/>
                </a:moveTo>
                <a:cubicBezTo>
                  <a:pt x="120" y="204"/>
                  <a:pt x="240" y="216"/>
                  <a:pt x="336" y="192"/>
                </a:cubicBezTo>
                <a:cubicBezTo>
                  <a:pt x="432" y="168"/>
                  <a:pt x="504" y="80"/>
                  <a:pt x="576" y="48"/>
                </a:cubicBezTo>
                <a:cubicBezTo>
                  <a:pt x="648" y="16"/>
                  <a:pt x="708" y="8"/>
                  <a:pt x="768" y="0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4559400"/>
            <a:ext cx="1600200" cy="88920"/>
          </a:xfrm>
          <a:custGeom>
            <a:avLst/>
            <a:gdLst/>
            <a:ahLst/>
            <a:rect l="l" t="t" r="r" b="b"/>
            <a:pathLst>
              <a:path w="1008" h="56">
                <a:moveTo>
                  <a:pt x="1008" y="8"/>
                </a:moveTo>
                <a:cubicBezTo>
                  <a:pt x="756" y="4"/>
                  <a:pt x="504" y="0"/>
                  <a:pt x="336" y="8"/>
                </a:cubicBezTo>
                <a:cubicBezTo>
                  <a:pt x="168" y="16"/>
                  <a:pt x="84" y="36"/>
                  <a:pt x="0" y="56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o indicate the LOCATION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ang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here, beca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angle is at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would press the “-”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629400" y="1066680"/>
            <a:ext cx="495360" cy="2187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38080" y="61722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s the “-” key to try some practice tria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bined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1752480"/>
            <a:ext cx="4267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o indicate the DIRECTION wher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row is po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here, becaus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row is point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would press the “-”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133720" y="1143000"/>
            <a:ext cx="10411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2:26:06Z</dcterms:created>
  <dc:creator> </dc:creator>
  <dc:description/>
  <dc:language>en-US</dc:language>
  <cp:lastModifiedBy> </cp:lastModifiedBy>
  <dcterms:modified xsi:type="dcterms:W3CDTF">2009-02-23T12:08:25Z</dcterms:modified>
  <cp:revision>99</cp:revision>
  <dc:subject/>
  <dc:title>Slide 1</dc:title>
</cp:coreProperties>
</file>