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177-408E-474A-B13E-C569BFEE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8DE-C6D6-4DD1-8D57-F3B043AE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18-ECD3-4736-ADC6-7DBB6BEF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09B-BBD3-4D94-A08B-4BDA6D70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3D-7D73-4F79-AD73-9D48AA52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756-363D-4BF2-B9B5-850893F1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7BC-6516-436C-9B14-C40D394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FB7-7577-478E-B105-525CAC34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275-19E5-43C2-A091-FAEEE546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8B9-BF73-44A9-9D0A-C694038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A37-E78B-4CC4-B426-9C42428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594-FDFE-4563-95F4-EA7E18D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C23-2389-43EC-9DFE-84B4AC14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lluccidesign.it/clip_art/hand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your best to perform as QUICKLY and as ACCURATELY as you can on this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make an error, a siren will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total of eight blocks of 96 trials each, which should last around 25 minutes 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-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RROR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114300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1981080"/>
            <a:ext cx="304920" cy="6098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"~" or “Enter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14400" y="298944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07280" y="2913120"/>
            <a:ext cx="374400" cy="165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1046400">
            <a:off x="7695720" y="190512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676520" y="321804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Enter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7848720" y="457200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8380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133720" y="441972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83680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162920" y="2742840"/>
            <a:ext cx="685800" cy="2057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838080" y="1905120"/>
            <a:ext cx="457200" cy="914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114300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981080"/>
            <a:ext cx="304920" cy="6098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"~" or “Enter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298944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407280" y="2913120"/>
            <a:ext cx="374400" cy="16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rot="1046400">
            <a:off x="7695720" y="190512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676520" y="321804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Enter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848720" y="457200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8380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2133720" y="441972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83680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62920" y="2742840"/>
            <a:ext cx="685800" cy="2057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838080" y="1905120"/>
            <a:ext cx="457200" cy="9144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actice Complete: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2514600"/>
            <a:ext cx="457200" cy="5335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314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4876920"/>
            <a:ext cx="1209600" cy="1876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8305920" y="3581280"/>
            <a:ext cx="380880" cy="9907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1066680"/>
            <a:ext cx="304560" cy="144792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8762400" y="4419720"/>
            <a:ext cx="228600" cy="167616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76320"/>
            <a:ext cx="571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out this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“~” key at top left of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8769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“Enter” key at bottom right of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1981080"/>
            <a:ext cx="381240" cy="38124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2895480"/>
            <a:ext cx="380880" cy="6858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ponses will be fastest if you rest your left hand on the desk near the left side of the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86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st your right hand on the desk near the right side of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resting your hands comfortably near the left and right sides of the keyboard, press the “~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271600">
            <a:off x="0" y="2133720"/>
            <a:ext cx="1038240" cy="1030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1603800">
            <a:off x="7772040" y="2895120"/>
            <a:ext cx="1200240" cy="1152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505320"/>
            <a:ext cx="457200" cy="5331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3147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6320" y="1066680"/>
            <a:ext cx="228600" cy="24386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using these keys, please use a finger from your LEFT hand to press the “~” key. Probably your left index finger or lef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~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8458200" cy="279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209600" cy="1876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8001000" y="4800600"/>
            <a:ext cx="457200" cy="8380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534520" y="2743200"/>
            <a:ext cx="457200" cy="213372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28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a finger from your RIGHT hand to press the “Enter” key. Probably your right index finger or righ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sk, you will 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triangles, like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041480" cy="218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21932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arrows, like th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495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47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stacks of triangles, indicate the LOCA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, you would press the "~"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1041120" cy="218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657600"/>
            <a:ext cx="6095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tack, you would press the “Enter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838080"/>
            <a:ext cx="1041480" cy="21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851040"/>
            <a:ext cx="1219320" cy="1054080"/>
          </a:xfrm>
          <a:custGeom>
            <a:avLst/>
            <a:gdLst/>
            <a:ahLst/>
            <a:rect l="l" t="t" r="r" b="b"/>
            <a:pathLst>
              <a:path w="768" h="952">
                <a:moveTo>
                  <a:pt x="0" y="904"/>
                </a:moveTo>
                <a:cubicBezTo>
                  <a:pt x="132" y="928"/>
                  <a:pt x="264" y="952"/>
                  <a:pt x="336" y="904"/>
                </a:cubicBezTo>
                <a:cubicBezTo>
                  <a:pt x="408" y="856"/>
                  <a:pt x="392" y="752"/>
                  <a:pt x="432" y="616"/>
                </a:cubicBezTo>
                <a:cubicBezTo>
                  <a:pt x="472" y="480"/>
                  <a:pt x="520" y="176"/>
                  <a:pt x="576" y="88"/>
                </a:cubicBezTo>
                <a:cubicBezTo>
                  <a:pt x="632" y="0"/>
                  <a:pt x="700" y="44"/>
                  <a:pt x="768" y="8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508640"/>
            <a:ext cx="2057400" cy="901440"/>
          </a:xfrm>
          <a:custGeom>
            <a:avLst/>
            <a:gdLst/>
            <a:ahLst/>
            <a:rect l="l" t="t" r="r" b="b"/>
            <a:pathLst>
              <a:path w="1296" h="568">
                <a:moveTo>
                  <a:pt x="1296" y="40"/>
                </a:moveTo>
                <a:cubicBezTo>
                  <a:pt x="1024" y="20"/>
                  <a:pt x="752" y="0"/>
                  <a:pt x="576" y="40"/>
                </a:cubicBezTo>
                <a:cubicBezTo>
                  <a:pt x="400" y="80"/>
                  <a:pt x="336" y="192"/>
                  <a:pt x="240" y="280"/>
                </a:cubicBezTo>
                <a:cubicBezTo>
                  <a:pt x="144" y="368"/>
                  <a:pt x="72" y="468"/>
                  <a:pt x="0" y="56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5562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rrows, indicate the DIRECTION in whic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ow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up, you would press the "~"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Enter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6576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down, you would press the “Enter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49536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81080"/>
            <a:ext cx="1219320" cy="343080"/>
          </a:xfrm>
          <a:custGeom>
            <a:avLst/>
            <a:gdLst/>
            <a:ahLst/>
            <a:rect l="l" t="t" r="r" b="b"/>
            <a:pathLst>
              <a:path w="768" h="216">
                <a:moveTo>
                  <a:pt x="0" y="192"/>
                </a:moveTo>
                <a:cubicBezTo>
                  <a:pt x="120" y="204"/>
                  <a:pt x="240" y="216"/>
                  <a:pt x="336" y="192"/>
                </a:cubicBezTo>
                <a:cubicBezTo>
                  <a:pt x="432" y="168"/>
                  <a:pt x="504" y="80"/>
                  <a:pt x="576" y="48"/>
                </a:cubicBezTo>
                <a:cubicBezTo>
                  <a:pt x="648" y="16"/>
                  <a:pt x="708" y="8"/>
                  <a:pt x="76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559400"/>
            <a:ext cx="1600200" cy="88920"/>
          </a:xfrm>
          <a:custGeom>
            <a:avLst/>
            <a:gdLst/>
            <a:ahLst/>
            <a:rect l="l" t="t" r="r" b="b"/>
            <a:pathLst>
              <a:path w="1008" h="56">
                <a:moveTo>
                  <a:pt x="1008" y="8"/>
                </a:moveTo>
                <a:cubicBezTo>
                  <a:pt x="756" y="4"/>
                  <a:pt x="504" y="0"/>
                  <a:pt x="336" y="8"/>
                </a:cubicBezTo>
                <a:cubicBezTo>
                  <a:pt x="168" y="16"/>
                  <a:pt x="84" y="36"/>
                  <a:pt x="0" y="56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LOC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"~" key to try some practice tr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7524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DIRECTION whe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"~"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1041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2:26:06Z</dcterms:created>
  <dc:creator> </dc:creator>
  <dc:description/>
  <dc:language>en-US</dc:language>
  <cp:lastModifiedBy> </cp:lastModifiedBy>
  <dcterms:modified xsi:type="dcterms:W3CDTF">2009-02-23T12:25:19Z</dcterms:modified>
  <cp:revision>100</cp:revision>
  <dc:subject/>
  <dc:title>Slide 1</dc:title>
</cp:coreProperties>
</file>